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AD1-B08B-4523-8843-01C66D5D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9C2-1952-43CC-BD7A-FB832D75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493-920E-49A4-8250-DCFB7A85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D3E-BB77-429B-B654-A9707204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43E-8D12-4BA8-AEBA-18E38227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648-DCA1-4800-9913-A0488151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2D8-B086-4353-9E3E-D90F666D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BB7-FA60-479F-9F53-E88A61F0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7C9-DC5A-4C91-8202-F3859893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AA5-92EB-41BC-A2FF-DF24E93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B41-7D9C-4232-B575-ED20BFDD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95D-EE0D-4507-B3B3-B3DD68B1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E8D3-35C6-4E3D-99DB-4520A8A1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 to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serve the L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8:39Z</dcterms:created>
  <dc:creator>Anon Anon</dc:creator>
  <dc:description/>
  <dc:language>en-US</dc:language>
  <cp:lastModifiedBy>Anon Anon</cp:lastModifiedBy>
  <dcterms:modified xsi:type="dcterms:W3CDTF">2005-08-09T05:28:13Z</dcterms:modified>
  <cp:revision>8</cp:revision>
  <dc:subject/>
  <dc:title>PowerPoint Presentation</dc:title>
</cp:coreProperties>
</file>